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8BB-C8B8-40E0-90AB-4E5324B9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EDE-9DE8-430A-A336-73C97B32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149-DE82-4605-ABDB-E91DA0DD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8C6-8884-4BE9-80F7-D4DB966A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9CB1-9676-41BA-B9FD-F88F85D4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3B4C-179D-44F5-BB8B-22FC8906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C280-9E89-4A81-93EC-AD7F75F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88ED-FBE8-42D1-A781-67282CA7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1AF8-E22D-457C-BD56-60238926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A5E1-0ABD-4705-A1F9-D5D4A0DD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D0C3-0706-4495-BE5E-32988C3A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39A-5359-469B-9909-106D3A41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63C3-F8E0-422A-9F24-F2E2A9C6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9A84-F881-44C8-B25D-C22FD7FE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87A1-B4A6-4A5D-A9C5-F0C35350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48D8-0065-4874-BF38-D24F9513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7D62-EE90-445F-BA57-6659BB9D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903-B828-4FC6-BFA3-DC91DFBE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BAD-9D16-4830-BC09-144D2EEC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E65-E588-40BB-B609-81BB0AE3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9E0-625E-4FC1-9BA9-CDE807C8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E8A-3E8A-467B-BDB3-F0BD10F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310-191A-4EA1-B643-B3C5E37F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6D0-406F-48C1-BAD3-177F5B20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010-0C02-42F2-B905-8ABEB3EDD8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938-819E-4DAF-A5D2-A12AAB2088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9th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324480" y="2781360"/>
            <a:ext cx="266544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.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You want to include your weaknesses in a training programm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Methods of practice you used to improve your weak skills and why they are effectiv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5560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923760"/>
            <a:ext cx="83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AB – Assessment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ur outcomes: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s 1 and 3 completed in S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s 2 and 4 completed in S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 1 is done as ho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utcome 3 is done in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Due Monday 16</a:t>
            </a:r>
            <a:r>
              <a:rPr b="0" lang="en-GB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Complete Part 1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(all 4 questions)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of the N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Make sure that you structure your answers and write in sent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4508640"/>
            <a:ext cx="4464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 able to complete part 1 of the N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 the 3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now the metho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48360" y="3933720"/>
            <a:ext cx="3564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1 – The Preparation (Cognitive)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2 – The Practice (Associative)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3 – The Automatic (Autonomous) S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12000" y="4941720"/>
            <a:ext cx="2844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Methods of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ere is a variety of different methods of practice which we use to develop our skills and techniq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hadow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out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petition with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tinuous 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bination 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ditioned G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Gradual Build U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(Whole Part Who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627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ge of Learning Ladd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State what practices would be used at each stage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utomatic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ssociate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Cognitive St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AB – Part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one as ho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4 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least ½ a page per ques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MUST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be returned Monday 1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November 200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2000" y="4521240"/>
            <a:ext cx="28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898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Describe the methods used to identify your performance strengths and weaknesses. 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nsideration of Qual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ovement analysis schedu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Knowledge of resul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catter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247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48360" y="3875040"/>
            <a:ext cx="3564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196640"/>
            <a:ext cx="77533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xplain why these methods were appropriate. 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Permanent record – so allowing you to compare them to previous schedules you have done to see if improv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mpare them – to a model performer eg. Another member of the class or a professional athle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eliable – as carried out in a controlled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port specific to badminton – allows you to improve the s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y are effective and appropri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strengths and weaknesses.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tate your weak and strong skills within badmint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How would these effect your perform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From using the methods of gathering information what strengths and weaknesses  have y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dentifi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09-11-09T10:29:17Z</dcterms:modified>
  <cp:revision>41</cp:revision>
  <dc:subject/>
  <dc:title>Slide 1</dc:title>
</cp:coreProperties>
</file>